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B2502-F789-4CAB-9A8B-3CFDF394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8BF8C-AB3A-44AC-877A-EDB8F2A8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BFF65-3107-4E05-A606-35F3963F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D2411-F838-483A-83C1-1A9224FB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7763-D473-4AD0-993D-96F2EC30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789E-8328-42BE-85F4-2EC1BC28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7F76-3E76-426B-8C1E-C5E4B582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AE6B-3FD3-4C45-9425-64F44CA7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D3EA-B468-4EB1-B43C-5DDF8901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DFE9-9C8E-49DB-B669-6FB994BC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53D2-BC28-440E-9933-8068536A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86CD5-021E-4885-B6A8-AA1DB228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8037-9446-4B22-9812-6CDB0889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EF78-4E27-4E22-BBE8-CC901D86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C68F-4742-4DDA-BF34-567CFF52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811D-FA12-48FC-88F9-FCE0BF39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EE40-20BB-4B62-98A4-8ACDE05D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21973-4EDA-483F-9F34-6A22F0E2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6C842-7295-4B69-BE2C-D22EB793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9CDCC-FFD8-43B2-B30E-1E403CB1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48DCD-8855-4592-9D09-364222B6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E89CF-714F-4FB2-BCF0-40131FDD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2837E-2268-430A-A9FB-C0768F8F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580A2-94ED-4C0C-8C69-74592D95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38D5-48F4-474B-80E5-AA7086731A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EAFB-6C2A-4A40-B2EE-C843F22B78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ine Analysis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he Affine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reak the Affine cipher all that is necessary is to find the substitution for two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say plaintext “e” is represented in the ciphertext by “c” and plaintext “t” is represented in the ciphertext by “f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wo substitutions define to affine equ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9720" y="4114800"/>
            <a:ext cx="80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2 = a*4 + b mod 26 (since e – character 4 is replaced by c – character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 = a*19 + b mod 26 (since t – character 19 is replaced by f – character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3840" y="5105520"/>
            <a:ext cx="71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ing the two equations for a and b results in the affine key (21,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affine equatio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c = 21*p + 22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AEF1A-DEF8-4466-A72C-5F83E53221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will solve the equations provided you find at least two correct sub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6705720" cy="3343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581280" y="2971800"/>
            <a:ext cx="1295640" cy="685800"/>
          </a:xfrm>
          <a:prstGeom prst="wedgeRoundRectCallout">
            <a:avLst>
              <a:gd name="adj1" fmla="val -45953"/>
              <a:gd name="adj2" fmla="val 6990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stit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2514600"/>
            <a:ext cx="1295640" cy="380880"/>
          </a:xfrm>
          <a:prstGeom prst="wedgeRoundRectCallout">
            <a:avLst>
              <a:gd name="adj1" fmla="val -45953"/>
              <a:gd name="adj2" fmla="val 16583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on 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3276720"/>
            <a:ext cx="1905120" cy="1143000"/>
          </a:xfrm>
          <a:prstGeom prst="wedgeRoundRectCallout">
            <a:avLst>
              <a:gd name="adj1" fmla="val -47250"/>
              <a:gd name="adj2" fmla="val 8861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this appears to be plaintext then you were corr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wise try another sub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15228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95E94-52F0-479E-9185-BDFEDFEC37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13T00:30:51Z</dcterms:modified>
  <cp:revision>31</cp:revision>
  <dc:subject/>
  <dc:title>CAP Cryptographic Analysis Program</dc:title>
</cp:coreProperties>
</file>